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gif" ContentType="image/gif"/>
  <Override PartName="/ppt/media/image17.png" ContentType="image/png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029-F4F4-40ED-870E-4C107633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8A5-9994-4CB8-B4DE-A9FC22CD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6DD3A-E556-4438-811D-544A38C8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50307-C3EC-4915-8FBB-05D97CBF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11923-BD03-49F2-A235-B8B7A991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B218A-AA95-4EFC-94F0-AAF6F61F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8EF41-5705-495F-99EE-C629CEA3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88EA9-09CB-4CC0-8AAF-AA3CFE19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62276-7F54-4E5D-AAF4-E0F85C9C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1313C-80F1-4025-B1B8-BADF8BE7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816EB-62AB-4885-8D97-CE5EF992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766-F747-42C1-A543-5364DBD1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DB04-65F5-4E8C-B6C4-CBE7E076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60E6-B4F9-4FF3-87F9-356FBE3D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4C82-5188-461B-8EE7-5FD986FE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D057-9050-47DE-8236-9501EAAA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DBC5-7848-4D35-B07C-9F472FEE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0FA6-2251-4996-84DB-F978CD42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A095-DF81-4F81-BB07-0F7F28D6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873A-FA77-4DFE-ABD1-84FE6A33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D84-8888-415F-95C5-7E5FE572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9029-3174-4FB0-A7D1-B3B05A18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D7A7-C41A-4488-AA75-93CBD457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AB22-266F-4BD7-911A-F6DF835A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FA64-D16A-4573-8081-811F63B3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6384-226C-4AA4-9015-EE8218BF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BE4ED-DE35-4D4D-BB13-8027C489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4809F-13E4-4F90-A92A-BCC7BF0E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DBBD0-E3D8-441A-B362-9E66634C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58BBC-681C-4164-87F4-B0792A3B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9B340-C4A8-4F22-A8F1-D5F6856D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8DB-BC73-4C5C-9766-188C91BB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6AFA6-70D9-49BE-8109-1AA7BDA7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BE3F5-1FCF-4226-A6B0-11F0E21F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4DD9C-7BDE-4FB8-8906-A87C6DAA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3B848-8BE6-40B0-ABB2-2E1CE98A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F2618-55C2-4542-99D0-AC840185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67A1C-D339-4B5B-A72D-45327BDF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A9C64-8EA7-4DC3-945E-E7938DCE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0758D-2BBE-45DB-96C3-08564B14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E5C91-2E23-4A6B-B323-F6F2096B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EA7FF-003B-495A-B114-F791E566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C8A1-764D-4743-A43D-AA562ADA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5007E-62B0-4D80-8FF7-74F94F03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549BC-CA31-4634-89BA-2EDC1CFB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30C36-7F17-45A9-81BF-59FFA1B2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10FB1-AC97-4E62-AE68-7922C42E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747D3-0241-4A12-85DF-64368BEE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E951C-513B-4A32-91A1-45D7DF2E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E4A9D-2E5F-4FE2-B57E-FFA3B9DD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4A7C1-1766-41F6-9E0E-FDCD9B4C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450CE-AF3D-4318-953A-913C3E77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C51D2-B8D1-4617-BF09-C932C4DE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E7E-E854-407E-A4D9-CA6C2DEA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0509F-453B-4E8C-8DFB-970CA95F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90651-D463-4D7A-B520-F07D768B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11D22-89F7-41AA-9145-D2F6C352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902FC-9984-4D0A-9896-0188C4B9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317C3-E7A6-464B-B670-A7106FF1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E99E6-1E3D-4263-A2B1-B524C67D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6B46E-0131-42C5-A49D-49BDF8DB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DCE45-9593-483F-ABE0-876B8309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5C884-2367-45F6-A83F-6548AA9D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010E0-09BA-4624-BB2A-B20BCC50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B448-0CA2-4780-BB15-E443BA5C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94EB9-A247-42D0-86A5-EFEA1CBF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8254F-BC3E-4897-9944-78739041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24421-B3A5-40F7-A77E-279155A2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7C496-657F-466B-A186-BCC693A5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05060-58DD-4BC6-8955-CBD14392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85EB0-5093-4FD0-BD51-9AA9F822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6A3EC-CABE-4AC3-9D62-4F0210A0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7E80F-2A41-44B7-AE2F-C5FB4CAE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E90DC-7058-4BAE-80EC-2AAD6154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36EDC-BAFF-4A85-AFD6-44412DB2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D270-BA26-4D58-9661-7E9374C0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ECD11-1D6D-41A5-82B2-92B19A78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1A66B-C1FA-4411-8428-2844628F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1E1BB-4D8C-4486-9A0A-A15DF332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89C90-CC0E-49D5-BC3E-0CBE6478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FFB8B-81C1-483D-B306-64605850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BB68B-E102-4AFF-BA69-0B9A1CC5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1E160-177F-4AC7-A97E-F35FC90F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62C7F-F3DA-4B74-8671-DA579145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42C91-4E30-4F67-A325-D23765C6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3C29A-1070-46F2-B1D5-A2DEC87B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444-0B20-475B-B9AA-16EEE359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448AA-DBA1-40F5-9431-5D3F0B4A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C2554-CD51-45FF-80A0-C4F58E3D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CD6B2-FFB5-4F08-9E62-9580B9CD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95251-2DC5-4F3E-AA7A-F6BEA590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B97D4-BE31-4774-926E-4E3C6CC4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28088-AF29-40F3-9476-61EF9A93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77D75-BFCA-4330-8551-063409D8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FF03F-E0CA-40B8-894C-45CE7827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62F79-909B-47DC-9360-AAF17BB6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63712-2ED2-4621-AEB5-6C9ED410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1911-362E-4725-906B-713E1A3E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737D2-172C-46DF-8A82-14ED495B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7051F-85D4-4BDC-AA54-73589EDC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2B4F9-BD47-466A-BEA1-0BAB4350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D9D2C-A058-4717-8412-7D5DD43D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7EF14-033D-447C-9CFF-9B22464C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5927D-A49A-49BE-AD72-6B4075B5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19A39-3F0D-4818-852D-8C866400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CCD48-8155-478A-B64A-E56792E8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BF8A6-229A-41DC-A7DE-079CED2A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51282-F687-4243-A213-A35DD76F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9CBA-53ED-4824-BC9B-63CD6F8708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132B-2A79-4624-A74C-633E467BA8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5C38-5C12-4687-A5BC-F34600CD8A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B999-279E-457E-BB0C-D39CDA76F7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761E-F963-439C-BBA0-EDF0ECB551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3C56-8504-4255-900E-4B4108B1EA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245" name="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391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405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419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433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447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461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6934320" y="-6480"/>
            <a:ext cx="2317680" cy="2062080"/>
            <a:chOff x="6934320" y="-6480"/>
            <a:chExt cx="2317680" cy="2062080"/>
          </a:xfrm>
        </p:grpSpPr>
        <p:sp>
          <p:nvSpPr>
            <p:cNvPr id="475" name="未知"/>
            <p:cNvSpPr/>
            <p:nvPr/>
          </p:nvSpPr>
          <p:spPr>
            <a:xfrm>
              <a:off x="7041600" y="-6480"/>
              <a:ext cx="2102760" cy="19123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6934320" y="0"/>
              <a:ext cx="2317680" cy="2055600"/>
              <a:chOff x="6934320" y="0"/>
              <a:chExt cx="2317680" cy="2055600"/>
            </a:xfrm>
          </p:grpSpPr>
          <p:sp>
            <p:nvSpPr>
              <p:cNvPr id="477" name="未知"/>
              <p:cNvSpPr/>
              <p:nvPr/>
            </p:nvSpPr>
            <p:spPr>
              <a:xfrm>
                <a:off x="7045200" y="0"/>
                <a:ext cx="383760" cy="14220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未知"/>
              <p:cNvSpPr/>
              <p:nvPr/>
            </p:nvSpPr>
            <p:spPr>
              <a:xfrm>
                <a:off x="6934320" y="0"/>
                <a:ext cx="2317680" cy="205560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未知"/>
              <p:cNvSpPr/>
              <p:nvPr/>
            </p:nvSpPr>
            <p:spPr>
              <a:xfrm>
                <a:off x="7485120" y="966240"/>
                <a:ext cx="186480" cy="2152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未知"/>
              <p:cNvSpPr/>
              <p:nvPr/>
            </p:nvSpPr>
            <p:spPr>
              <a:xfrm>
                <a:off x="7314120" y="105480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未知"/>
              <p:cNvSpPr/>
              <p:nvPr/>
            </p:nvSpPr>
            <p:spPr>
              <a:xfrm>
                <a:off x="7211520" y="477360"/>
                <a:ext cx="534960" cy="24192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未知"/>
              <p:cNvSpPr/>
              <p:nvPr/>
            </p:nvSpPr>
            <p:spPr>
              <a:xfrm>
                <a:off x="7818120" y="1162800"/>
                <a:ext cx="383760" cy="3920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未知"/>
              <p:cNvSpPr/>
              <p:nvPr/>
            </p:nvSpPr>
            <p:spPr>
              <a:xfrm>
                <a:off x="8701200" y="76608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未知"/>
              <p:cNvSpPr/>
              <p:nvPr/>
            </p:nvSpPr>
            <p:spPr>
              <a:xfrm>
                <a:off x="8831880" y="75096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未知"/>
              <p:cNvSpPr/>
              <p:nvPr/>
            </p:nvSpPr>
            <p:spPr>
              <a:xfrm>
                <a:off x="8820360" y="90108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未知"/>
              <p:cNvSpPr/>
              <p:nvPr/>
            </p:nvSpPr>
            <p:spPr>
              <a:xfrm>
                <a:off x="8566200" y="103572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未知"/>
              <p:cNvSpPr/>
              <p:nvPr/>
            </p:nvSpPr>
            <p:spPr>
              <a:xfrm>
                <a:off x="8625960" y="115920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未知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未知"/>
              <p:cNvSpPr/>
              <p:nvPr/>
            </p:nvSpPr>
            <p:spPr>
              <a:xfrm>
                <a:off x="8895600" y="1101240"/>
                <a:ext cx="257400" cy="6501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19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0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21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1817-EFA8-477C-A278-3024606830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533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547" name="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dt" idx="22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ftr" idx="2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1B41-C8E1-4EAE-B8D5-CDF4A3760B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697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FD91-B57A-4563-890C-3FB2048A49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hyperlink" Target="http://baike.baidu.com/view/1180724.htm" TargetMode="External"/><Relationship Id="rId6" Type="http://schemas.openxmlformats.org/officeDocument/2006/relationships/hyperlink" Target="http://baike.baidu.com/view/1920063.htm" TargetMode="External"/><Relationship Id="rId7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  <a:ea typeface="华文行楷"/>
              </a:rPr>
              <a:t>《</a:t>
            </a:r>
            <a:r>
              <a:rPr b="1" lang="zh-CN" sz="8800" spc="-1" strike="noStrike">
                <a:solidFill>
                  <a:srgbClr val="333399"/>
                </a:solidFill>
                <a:latin typeface="Arial"/>
                <a:ea typeface="华文行楷"/>
              </a:rPr>
              <a:t>世说新语</a:t>
            </a:r>
            <a:r>
              <a:rPr b="1" lang="en-US" sz="8800" spc="-1" strike="noStrike">
                <a:solidFill>
                  <a:srgbClr val="333399"/>
                </a:solidFill>
                <a:latin typeface="Arial"/>
                <a:ea typeface="华文行楷"/>
              </a:rPr>
              <a:t>》</a:t>
            </a:r>
            <a:r>
              <a:rPr b="1" lang="zh-CN" sz="8800" spc="-1" strike="noStrike">
                <a:solidFill>
                  <a:srgbClr val="333399"/>
                </a:solidFill>
                <a:latin typeface="Arial"/>
                <a:ea typeface="华文行楷"/>
              </a:rPr>
              <a:t>两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843280" y="4076640"/>
            <a:ext cx="47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隶书"/>
              </a:rPr>
              <a:t>刘 义 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0" y="1828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大笑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大兄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无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28954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0" y="441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左将军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王凝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妻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0" y="2666880"/>
            <a:ext cx="9144000" cy="2822040"/>
            <a:chOff x="0" y="2666880"/>
            <a:chExt cx="9144000" cy="2822040"/>
          </a:xfrm>
        </p:grpSpPr>
        <p:sp>
          <p:nvSpPr>
            <p:cNvPr id="869" name=""/>
            <p:cNvSpPr/>
            <p:nvPr/>
          </p:nvSpPr>
          <p:spPr>
            <a:xfrm>
              <a:off x="0" y="26668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82900"/>
                  </a:solidFill>
                  <a:latin typeface="Times New Roman"/>
                </a:rPr>
                <a:t>谢安高兴地笑了起来。（道韫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就是</a:t>
              </a:r>
              <a:r>
                <a:rPr b="1" lang="zh-CN" sz="2400" spc="-1" strike="noStrike">
                  <a:solidFill>
                    <a:srgbClr val="d82900"/>
                  </a:solidFill>
                  <a:latin typeface="Times New Roman"/>
                </a:rPr>
                <a:t>太傅大哥谢无弈的女儿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0" y="502920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82900"/>
                  </a:solidFill>
                  <a:latin typeface="Times New Roman"/>
                </a:rPr>
                <a:t>左将军王凝之的妻子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971640" y="981000"/>
            <a:ext cx="1368000" cy="909360"/>
            <a:chOff x="971640" y="981000"/>
            <a:chExt cx="1368000" cy="909360"/>
          </a:xfrm>
        </p:grpSpPr>
        <p:sp>
          <p:nvSpPr>
            <p:cNvPr id="872" name=""/>
            <p:cNvSpPr/>
            <p:nvPr/>
          </p:nvSpPr>
          <p:spPr>
            <a:xfrm>
              <a:off x="1570320" y="1477080"/>
              <a:ext cx="0" cy="4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971640" y="981000"/>
              <a:ext cx="1368000" cy="4960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高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5562720" y="609480"/>
            <a:ext cx="2743200" cy="1219320"/>
            <a:chOff x="5562720" y="609480"/>
            <a:chExt cx="2743200" cy="1219320"/>
          </a:xfrm>
        </p:grpSpPr>
        <p:sp>
          <p:nvSpPr>
            <p:cNvPr id="875" name=""/>
            <p:cNvSpPr/>
            <p:nvPr/>
          </p:nvSpPr>
          <p:spPr>
            <a:xfrm>
              <a:off x="6858000" y="14475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62720" y="609480"/>
              <a:ext cx="274320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谢道韫，东晋有名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才女，聪明有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1143000" y="3276720"/>
            <a:ext cx="2819520" cy="1218600"/>
            <a:chOff x="1143000" y="3276720"/>
            <a:chExt cx="2819520" cy="1218600"/>
          </a:xfrm>
        </p:grpSpPr>
        <p:sp>
          <p:nvSpPr>
            <p:cNvPr id="878" name=""/>
            <p:cNvSpPr/>
            <p:nvPr/>
          </p:nvSpPr>
          <p:spPr>
            <a:xfrm>
              <a:off x="1981080" y="41144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43000" y="3276720"/>
              <a:ext cx="2819520" cy="837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字叔平，大书法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王羲之是第二个儿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4067280" y="4508640"/>
            <a:ext cx="1873080" cy="5205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表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492360" y="465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3995640" y="981000"/>
            <a:ext cx="1368000" cy="909360"/>
            <a:chOff x="3995640" y="981000"/>
            <a:chExt cx="1368000" cy="909360"/>
          </a:xfrm>
        </p:grpSpPr>
        <p:sp>
          <p:nvSpPr>
            <p:cNvPr id="883" name=""/>
            <p:cNvSpPr/>
            <p:nvPr/>
          </p:nvSpPr>
          <p:spPr>
            <a:xfrm>
              <a:off x="4594320" y="1477080"/>
              <a:ext cx="0" cy="4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95640" y="981000"/>
              <a:ext cx="1368000" cy="4960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就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0" y="692280"/>
            <a:ext cx="93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990000"/>
                </a:solidFill>
                <a:latin typeface="Arial"/>
              </a:rPr>
              <a:t>找出本文的古今异义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6" name=""/>
          <p:cNvGraphicFramePr/>
          <p:nvPr/>
        </p:nvGraphicFramePr>
        <p:xfrm>
          <a:off x="468360" y="1700280"/>
          <a:ext cx="8351640" cy="4078080"/>
        </p:xfrm>
        <a:graphic>
          <a:graphicData uri="http://schemas.openxmlformats.org/drawingml/2006/table">
            <a:tbl>
              <a:tblPr/>
              <a:tblGrid>
                <a:gridCol w="2087280"/>
                <a:gridCol w="2089080"/>
                <a:gridCol w="2087640"/>
                <a:gridCol w="2087640"/>
              </a:tblGrid>
              <a:tr h="13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词语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古义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今义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7" name=""/>
          <p:cNvSpPr/>
          <p:nvPr/>
        </p:nvSpPr>
        <p:spPr>
          <a:xfrm>
            <a:off x="3708360" y="4762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627280" y="1916280"/>
            <a:ext cx="1943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儿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643280" y="191628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文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948360" y="2060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风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484360" y="3141720"/>
            <a:ext cx="216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家中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子侄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556000" y="472428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子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716360" y="342900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诗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716360" y="443700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文章意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588000" y="342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凭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659640" y="4797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因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899" name=""/>
          <p:cNvSpPr/>
          <p:nvPr/>
        </p:nvSpPr>
        <p:spPr>
          <a:xfrm>
            <a:off x="826920" y="1052640"/>
            <a:ext cx="741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学指导三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042920" y="3068640"/>
            <a:ext cx="68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0" y="2205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332000" y="2565360"/>
            <a:ext cx="59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95280" y="213372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．下列人物叫什么名字？（</a:t>
            </a:r>
            <a:r>
              <a:rPr b="0" lang="zh-CN" sz="3600" spc="-1" strike="noStrike">
                <a:solidFill>
                  <a:srgbClr val="990000"/>
                </a:solidFill>
                <a:latin typeface="Arial"/>
              </a:rPr>
              <a:t>谢太傅、胡儿、兄女、左将军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50920" y="364500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．“寒雪”“内集”“欣然”“大笑”’等词语营造了一种怎样的家庭氛围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．文章结尾交待了谢道韫的身份，有什么用意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华文彩云"/>
              </a:rPr>
              <a:t>1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华文彩云"/>
              </a:rPr>
              <a:t>、下列人物叫什么名字？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979280" y="1916280"/>
            <a:ext cx="327492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谢太傅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胡儿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兄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左将军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359240" y="1922400"/>
            <a:ext cx="424512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华文新魏"/>
                <a:ea typeface="华文新魏"/>
              </a:rPr>
              <a:t>谢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华文新魏"/>
                <a:ea typeface="华文新魏"/>
              </a:rPr>
              <a:t>谢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华文新魏"/>
                <a:ea typeface="华文新魏"/>
              </a:rPr>
              <a:t>谢道韫（</a:t>
            </a:r>
            <a:r>
              <a:rPr b="0" lang="en-US" sz="4400" spc="-1" strike="noStrike">
                <a:solidFill>
                  <a:srgbClr val="000099"/>
                </a:solidFill>
                <a:latin typeface="华文新魏"/>
                <a:ea typeface="华文新魏"/>
              </a:rPr>
              <a:t>yùn</a:t>
            </a:r>
            <a:r>
              <a:rPr b="0" lang="zh-CN" sz="4400" spc="-1" strike="noStrike">
                <a:solidFill>
                  <a:srgbClr val="000099"/>
                </a:solidFill>
                <a:latin typeface="华文新魏"/>
                <a:ea typeface="华文新魏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华文新魏"/>
                <a:ea typeface="华文新魏"/>
              </a:rPr>
              <a:t>王凝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0" y="1052640"/>
            <a:ext cx="939636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．“寒雪”“内集”“欣然”“大笑”’等词语营造了一种怎样的家庭氛围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．文章结尾交待了谢道韫的身份，有什么用意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50920" y="2708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家庭氛围：融洽、欢乐、轻松、温馨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79280" y="5157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表示一种赞扬和敬佩，暗示读者谢太傅更赞赏谢道韫的才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250920" y="1484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１、撒盐空中、柳絮因风起两个比喻，哪一个更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611280" y="0"/>
            <a:ext cx="417672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深入理解</a:t>
            </a:r>
            <a:endParaRPr b="0" lang="en-US" sz="1800" spc="-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13" name=""/>
          <p:cNvSpPr/>
          <p:nvPr/>
        </p:nvSpPr>
        <p:spPr>
          <a:xfrm>
            <a:off x="539640" y="270828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参考：前者写的好，因为雪的颜色和形态跟盐相似（形似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后者写的好，因为雪的飘飞和柳絮的飘飞接近（神似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539640" y="2666880"/>
            <a:ext cx="296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柳絮因风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732720" y="1413000"/>
            <a:ext cx="7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659640" y="270828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924360" y="3933720"/>
            <a:ext cx="27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文化内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995640" y="1413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飞扬之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962520" y="2666880"/>
            <a:ext cx="26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轻盈之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505320" y="1628640"/>
            <a:ext cx="203040" cy="2808360"/>
          </a:xfrm>
          <a:custGeom>
            <a:avLst/>
            <a:gdLst>
              <a:gd name="textAreaLeft" fmla="*/ 129600 w 203040"/>
              <a:gd name="textAreaRight" fmla="*/ 203400 w 2030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59640" y="39337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0" y="1484280"/>
            <a:ext cx="9144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白雪歌送武判官归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·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岑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cén)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北风卷地白草折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shé)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胡天八月即飞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忽如一夜春风来，千树万树梨花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50920" y="5300640"/>
            <a:ext cx="8893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提示：以“梨花”喻雪，妙哉，雅哉，不愧为千古写雪之名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685680" y="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２、说说还可以用哪些事物来比喻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春     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韩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新年都未有芳华，二月初惊见草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白雪却嫌春色晚，故穿庭树作飞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2133720"/>
            <a:ext cx="88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提示：这首诗诗人赋情于雪，仿佛白雪也嫌春光来迟，像落花一样飘飞，来装点春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299736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夜     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白居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已讶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jīn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枕冷，复见窗户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夜深知雪重，时闻折竹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50920" y="5373720"/>
            <a:ext cx="889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提示：这首诗采用侧面烘托陪衬的手法，从感觉、视觉、听觉入手写雪，尽现雪之寒、大、重。短短四句诗，把夜雪描写得曲折、细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5"/>
          <a:stretch/>
        </p:blipFill>
        <p:spPr>
          <a:xfrm>
            <a:off x="1676520" y="838080"/>
            <a:ext cx="7315200" cy="533412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-269640" y="1249200"/>
            <a:ext cx="164268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陈太丘与友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cc00"/>
                </a:solidFill>
                <a:latin typeface="Arial"/>
              </a:rPr>
              <a:t>教学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积累常见的文言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合作学习了解古代聪颖机智少年的故事，学习古人的智慧、诚实、守信、尊重他人的美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熟读课文、背诵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979a5"/>
                </a:solidFill>
                <a:latin typeface="Arial"/>
              </a:rPr>
              <a:t>教学目标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、积累常见的文言词语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、合作学习了解古代聪颖机智少年的故事，学习古人的智慧、诚实、守信、尊重他人的美德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、熟读课文、背诵课文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38" name=""/>
          <p:cNvSpPr/>
          <p:nvPr/>
        </p:nvSpPr>
        <p:spPr>
          <a:xfrm>
            <a:off x="1042920" y="3068640"/>
            <a:ext cx="68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755640" y="2708280"/>
            <a:ext cx="763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39640" y="2019960"/>
            <a:ext cx="8244000" cy="25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黑体"/>
                <a:ea typeface="黑体"/>
                <a:hlinkClick r:id="rId5"/>
              </a:rPr>
              <a:t>陈太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友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黑体"/>
                <a:ea typeface="黑体"/>
                <a:hlinkClick r:id="rId6"/>
              </a:rPr>
              <a:t>期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期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中。过中不至，太丘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舍去，去后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乃至。 元方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年七岁，门外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戏。客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问元方：“尊君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不？”答曰：“待君久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至，已去。”友人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便怒曰：“非人哉！与人期行，相委而去。”元方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曰：“君与家君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期日中，日中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至，则是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无信；对子骂父，则是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无礼。” 友人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惭，下车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引之。元方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入门不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0" y="907920"/>
            <a:ext cx="896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ff"/>
                </a:solidFill>
                <a:latin typeface="Arial"/>
                <a:ea typeface="楷体_GB2312"/>
              </a:rPr>
              <a:t>自学指导一</a:t>
            </a:r>
            <a:r>
              <a:rPr b="0" lang="zh-CN" sz="6000" spc="-1" strike="noStrike">
                <a:solidFill>
                  <a:srgbClr val="6600ff"/>
                </a:solidFill>
                <a:latin typeface="Arial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结合课下注释翻译课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0" y="1600200"/>
            <a:ext cx="9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陈太丘与友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期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期日中，过中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太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舍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286000" y="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陈太丘与友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4572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去后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至。   元方时年七岁，门外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戏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。客问元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0" y="2362320"/>
            <a:ext cx="9144000" cy="3354840"/>
            <a:chOff x="0" y="2362320"/>
            <a:chExt cx="9144000" cy="3354840"/>
          </a:xfrm>
        </p:grpSpPr>
        <p:sp>
          <p:nvSpPr>
            <p:cNvPr id="946" name=""/>
            <p:cNvSpPr/>
            <p:nvPr/>
          </p:nvSpPr>
          <p:spPr>
            <a:xfrm>
              <a:off x="0" y="2362320"/>
              <a:ext cx="87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陈太丘跟一位朋友约好同行，约好正午（见面），正午过了那个朋友还没有到，陈太丘就不再等候离开了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0" y="525744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陈太丘走后那人才到达。元方当时才七岁，在门外嬉戏，那人问元方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838080" y="914400"/>
            <a:ext cx="2743200" cy="762120"/>
            <a:chOff x="838080" y="914400"/>
            <a:chExt cx="2743200" cy="762120"/>
          </a:xfrm>
        </p:grpSpPr>
        <p:sp>
          <p:nvSpPr>
            <p:cNvPr id="949" name=""/>
            <p:cNvSpPr/>
            <p:nvPr/>
          </p:nvSpPr>
          <p:spPr>
            <a:xfrm>
              <a:off x="2590560" y="1371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38080" y="914400"/>
              <a:ext cx="27432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相约而行。期，约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019920" y="609480"/>
            <a:ext cx="838080" cy="914400"/>
            <a:chOff x="6019920" y="609480"/>
            <a:chExt cx="838080" cy="914400"/>
          </a:xfrm>
        </p:grpSpPr>
        <p:sp>
          <p:nvSpPr>
            <p:cNvPr id="952" name=""/>
            <p:cNvSpPr/>
            <p:nvPr/>
          </p:nvSpPr>
          <p:spPr>
            <a:xfrm>
              <a:off x="6400800" y="1218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019920" y="609480"/>
              <a:ext cx="83808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到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838080" y="3886200"/>
            <a:ext cx="914400" cy="838080"/>
            <a:chOff x="838080" y="3886200"/>
            <a:chExt cx="914400" cy="838080"/>
          </a:xfrm>
        </p:grpSpPr>
        <p:sp>
          <p:nvSpPr>
            <p:cNvPr id="955" name=""/>
            <p:cNvSpPr/>
            <p:nvPr/>
          </p:nvSpPr>
          <p:spPr>
            <a:xfrm>
              <a:off x="1218960" y="4343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38080" y="3886200"/>
              <a:ext cx="9144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640080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943600" y="3809880"/>
            <a:ext cx="990720" cy="6098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嬉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7596360" y="765000"/>
            <a:ext cx="838080" cy="914400"/>
            <a:chOff x="7596360" y="765000"/>
            <a:chExt cx="838080" cy="914400"/>
          </a:xfrm>
        </p:grpSpPr>
        <p:sp>
          <p:nvSpPr>
            <p:cNvPr id="960" name=""/>
            <p:cNvSpPr/>
            <p:nvPr/>
          </p:nvSpPr>
          <p:spPr>
            <a:xfrm>
              <a:off x="7977240" y="1374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96360" y="765000"/>
              <a:ext cx="83808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Arial"/>
                </a:rPr>
                <a:t>放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8305920" y="981000"/>
            <a:ext cx="838080" cy="914400"/>
            <a:chOff x="8305920" y="981000"/>
            <a:chExt cx="838080" cy="914400"/>
          </a:xfrm>
        </p:grpSpPr>
        <p:sp>
          <p:nvSpPr>
            <p:cNvPr id="963" name=""/>
            <p:cNvSpPr/>
            <p:nvPr/>
          </p:nvSpPr>
          <p:spPr>
            <a:xfrm>
              <a:off x="8686800" y="1590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305920" y="981000"/>
              <a:ext cx="83808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Arial"/>
                </a:rPr>
                <a:t>离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尊 君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在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？”答曰：“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待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君久不至，已去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0" y="3276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友人便怒：“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非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人哉！与人期行，相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而去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0" y="1752480"/>
            <a:ext cx="9144000" cy="2669400"/>
            <a:chOff x="0" y="1752480"/>
            <a:chExt cx="9144000" cy="2669400"/>
          </a:xfrm>
        </p:grpSpPr>
        <p:sp>
          <p:nvSpPr>
            <p:cNvPr id="968" name=""/>
            <p:cNvSpPr/>
            <p:nvPr/>
          </p:nvSpPr>
          <p:spPr>
            <a:xfrm>
              <a:off x="0" y="17524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你父亲在吗？”元方答道：“等了你好久你不来，他已经离开了。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0" y="3962160"/>
              <a:ext cx="883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那人便生气的说：“（你父亲）真不是人，和别人约好一起走，却把人丢下自己走了。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4920" y="189000"/>
            <a:ext cx="2590920" cy="990000"/>
            <a:chOff x="34920" y="189000"/>
            <a:chExt cx="2590920" cy="990000"/>
          </a:xfrm>
        </p:grpSpPr>
        <p:sp>
          <p:nvSpPr>
            <p:cNvPr id="971" name=""/>
            <p:cNvSpPr/>
            <p:nvPr/>
          </p:nvSpPr>
          <p:spPr>
            <a:xfrm>
              <a:off x="797040" y="798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4920" y="189000"/>
              <a:ext cx="25909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对别人父亲的尊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2437920" y="304920"/>
            <a:ext cx="1676880" cy="838080"/>
            <a:chOff x="2437920" y="304920"/>
            <a:chExt cx="1676880" cy="838080"/>
          </a:xfrm>
        </p:grpSpPr>
        <p:sp>
          <p:nvSpPr>
            <p:cNvPr id="974" name=""/>
            <p:cNvSpPr/>
            <p:nvPr/>
          </p:nvSpPr>
          <p:spPr>
            <a:xfrm flipH="1">
              <a:off x="2437920" y="76212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819160" y="304920"/>
              <a:ext cx="129564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通“否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4858920" y="333360"/>
            <a:ext cx="1371960" cy="762120"/>
            <a:chOff x="4858920" y="333360"/>
            <a:chExt cx="1371960" cy="762120"/>
          </a:xfrm>
        </p:grpSpPr>
        <p:sp>
          <p:nvSpPr>
            <p:cNvPr id="977" name=""/>
            <p:cNvSpPr/>
            <p:nvPr/>
          </p:nvSpPr>
          <p:spPr>
            <a:xfrm flipH="1">
              <a:off x="4858920" y="7905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859280" y="333360"/>
              <a:ext cx="137160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等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2124000" y="2565360"/>
            <a:ext cx="1295280" cy="762120"/>
            <a:chOff x="2124000" y="2565360"/>
            <a:chExt cx="1295280" cy="762120"/>
          </a:xfrm>
        </p:grpSpPr>
        <p:sp>
          <p:nvSpPr>
            <p:cNvPr id="980" name=""/>
            <p:cNvSpPr/>
            <p:nvPr/>
          </p:nvSpPr>
          <p:spPr>
            <a:xfrm>
              <a:off x="2609640" y="3098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124000" y="2565360"/>
              <a:ext cx="129528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不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"/>
          <p:cNvSpPr/>
          <p:nvPr/>
        </p:nvSpPr>
        <p:spPr>
          <a:xfrm>
            <a:off x="66294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791320" y="2514600"/>
            <a:ext cx="2020680" cy="533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丢下，舍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1143000"/>
            <a:ext cx="99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方曰：“君与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家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期日中。日中不至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3352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子骂父，则是无礼。”         友人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下车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522936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方入门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0" y="1981080"/>
            <a:ext cx="9144000" cy="4269600"/>
            <a:chOff x="0" y="1981080"/>
            <a:chExt cx="9144000" cy="4269600"/>
          </a:xfrm>
        </p:grpSpPr>
        <p:sp>
          <p:nvSpPr>
            <p:cNvPr id="988" name=""/>
            <p:cNvSpPr/>
            <p:nvPr/>
          </p:nvSpPr>
          <p:spPr>
            <a:xfrm>
              <a:off x="0" y="19810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元方说；     “你跟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我爸爸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约好正午。你正午不到， 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就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是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不讲信用。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0" y="396216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对着人家的儿子骂他，就是没有礼貌。”那人感到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惭愧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，便下车想拉元方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0" y="5790960"/>
              <a:ext cx="72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元方头也不回地走进自己家的大门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800100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7236000" y="2565360"/>
            <a:ext cx="13554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36232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752480" y="4648320"/>
            <a:ext cx="129564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回头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8305920" y="189000"/>
            <a:ext cx="838080" cy="914400"/>
            <a:chOff x="8305920" y="189000"/>
            <a:chExt cx="838080" cy="914400"/>
          </a:xfrm>
        </p:grpSpPr>
        <p:sp>
          <p:nvSpPr>
            <p:cNvPr id="996" name=""/>
            <p:cNvSpPr/>
            <p:nvPr/>
          </p:nvSpPr>
          <p:spPr>
            <a:xfrm>
              <a:off x="8686800" y="79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305920" y="189000"/>
              <a:ext cx="83808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Arial"/>
                </a:rPr>
                <a:t>信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7093080" y="333360"/>
            <a:ext cx="838080" cy="914400"/>
            <a:chOff x="7093080" y="333360"/>
            <a:chExt cx="838080" cy="914400"/>
          </a:xfrm>
        </p:grpSpPr>
        <p:sp>
          <p:nvSpPr>
            <p:cNvPr id="999" name=""/>
            <p:cNvSpPr/>
            <p:nvPr/>
          </p:nvSpPr>
          <p:spPr>
            <a:xfrm>
              <a:off x="7473960" y="9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93080" y="333360"/>
              <a:ext cx="83808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Arial"/>
                </a:rPr>
                <a:t>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2843280" y="260280"/>
            <a:ext cx="838080" cy="914400"/>
            <a:chOff x="2843280" y="260280"/>
            <a:chExt cx="838080" cy="914400"/>
          </a:xfrm>
        </p:grpSpPr>
        <p:sp>
          <p:nvSpPr>
            <p:cNvPr id="1002" name=""/>
            <p:cNvSpPr/>
            <p:nvPr/>
          </p:nvSpPr>
          <p:spPr>
            <a:xfrm>
              <a:off x="3224160" y="869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43280" y="260280"/>
              <a:ext cx="83808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Arial"/>
                </a:rPr>
                <a:t>我爸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5940360" y="2492280"/>
            <a:ext cx="838080" cy="914400"/>
            <a:chOff x="5940360" y="2492280"/>
            <a:chExt cx="838080" cy="914400"/>
          </a:xfrm>
        </p:grpSpPr>
        <p:sp>
          <p:nvSpPr>
            <p:cNvPr id="1005" name=""/>
            <p:cNvSpPr/>
            <p:nvPr/>
          </p:nvSpPr>
          <p:spPr>
            <a:xfrm>
              <a:off x="6321240" y="3101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940360" y="2492280"/>
              <a:ext cx="83808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Arial"/>
                </a:rPr>
                <a:t>惭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 txBox="1"/>
          <p:nvPr/>
        </p:nvSpPr>
        <p:spPr>
          <a:xfrm>
            <a:off x="179280" y="1052640"/>
            <a:ext cx="478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考考你</a:t>
            </a:r>
            <a:r>
              <a:rPr b="0" lang="en-US" sz="5400" spc="-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:</a:t>
            </a:r>
            <a:endParaRPr b="0" lang="en-US" sz="5400" spc="-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1547640" y="2852640"/>
            <a:ext cx="4572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补出课文中的省略部分。</a:t>
            </a:r>
            <a:endParaRPr b="0" lang="en-US" sz="1800" spc="-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9" name=""/>
          <p:cNvSpPr/>
          <p:nvPr/>
        </p:nvSpPr>
        <p:spPr>
          <a:xfrm>
            <a:off x="1332000" y="4221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如：期日中，过中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不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250920" y="1710000"/>
            <a:ext cx="864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　　陈太丘与友期行，期日中，过中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不至，太丘舍去，去后（　）乃至。元方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年七岁，（　）门外戏。客问元方：“尊君在不？”（　　）答曰：“（　　）待君久（　）不至，（　　）已去。”友人便怒：“非人哉！与人期行，相委（　）而去。”元方曰：“君与家君期日中。（　）日中不至，则是无信；（　）对子骂父，则是无礼。”友人惭，下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引之，元方入门不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164360" y="907920"/>
            <a:ext cx="647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716360" y="1700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835280" y="2205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　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92360" y="270828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元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716360" y="2708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家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96360" y="270828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908000" y="314172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家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3492360" y="3645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132000" y="4149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84360" y="45813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9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-108000" y="2349360"/>
            <a:ext cx="9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文中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家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尊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的称谓有什么不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373480" y="981000"/>
            <a:ext cx="5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自学指导二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306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“期日中，过中不至”说明陈太丘的朋友是个怎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741840" y="436572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元方指出了父亲友人的哪两个错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594880" y="494172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陈元方是一个怎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565440" y="5589720"/>
            <a:ext cx="24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元方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入门不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是否失礼？说说你的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793" name=""/>
          <p:cNvSpPr/>
          <p:nvPr/>
        </p:nvSpPr>
        <p:spPr>
          <a:xfrm>
            <a:off x="826920" y="1052640"/>
            <a:ext cx="741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学指导一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042920" y="3068640"/>
            <a:ext cx="68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55640" y="270828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课文录音，在课文中标注出生字读音，听后进行检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332000" y="2565360"/>
            <a:ext cx="59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35000" y="-25920"/>
            <a:ext cx="85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问题研究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1532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君”“尊君”“家君”的称谓有什么不同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64800" y="1802520"/>
            <a:ext cx="471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君”是有礼貌地称呼对方，犹今之“您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尊君”是对别人父亲的一种尊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家君”是对人称自己的父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95280" y="3429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其他敬称和谦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197080" y="4148640"/>
            <a:ext cx="520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辨别下列词语哪些属于敬词，哪些属于谦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敝人　②卑职　③陛下　④令尊　⑤寡人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足下　⑦令郎　⑧老朽　⑨麾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872360" y="5846040"/>
            <a:ext cx="32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敬词有③④⑥⑦⑨　谦词有①②⑤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35" name=""/>
          <p:cNvSpPr/>
          <p:nvPr/>
        </p:nvSpPr>
        <p:spPr>
          <a:xfrm>
            <a:off x="539640" y="9810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“期日中，过中不至”说明陈太丘的朋友是个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971640" y="22050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个不守信用，没有时间观念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95280" y="357336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日中不至，则是无信；对子骂父，则是无礼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480" y="2971800"/>
            <a:ext cx="770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元方指出了父亲友人的哪两个错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85800" y="42670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陈元方是一个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755640" y="486900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聪明、勇敢、明理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或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懂礼识仪，机智聪明，刚正不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468360" y="1052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元方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入门不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是否失礼？说说你的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2"/>
          <a:stretch/>
        </p:blipFill>
        <p:spPr>
          <a:xfrm>
            <a:off x="8467560" y="5805360"/>
            <a:ext cx="676440" cy="67644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/>
          <p:nvPr/>
        </p:nvSpPr>
        <p:spPr>
          <a:xfrm>
            <a:off x="1116000" y="2637000"/>
            <a:ext cx="73454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元方对粗俗的友人“入门不顾”流露了小孩子性格直率，好恶情感易外露的特点，体现了他懂礼识仪，机智聪明，刚正不阿的性格特征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40000"/>
                </a:solidFill>
                <a:latin typeface="Arial"/>
                <a:ea typeface="华文彩云"/>
              </a:rPr>
              <a:t>作者写此文，意图是什么？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72452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借元方责客之语，说明“信”和“礼”的重要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也赞扬元方的聪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2" dur="500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7" dur="500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 txBox="1"/>
          <p:nvPr/>
        </p:nvSpPr>
        <p:spPr>
          <a:xfrm>
            <a:off x="3429000" y="228600"/>
            <a:ext cx="3276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48" name=""/>
          <p:cNvSpPr/>
          <p:nvPr/>
        </p:nvSpPr>
        <p:spPr>
          <a:xfrm>
            <a:off x="380880" y="10666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元方斥责“友人”无信，令你想起我们学过的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《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论语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&gt;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十则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的哪句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09480" y="22096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与朋友交而不信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04920" y="2971800"/>
            <a:ext cx="84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你从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陈太丘与友期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中得到什么启示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733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做人要讲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诚信是砍倒父亲最心爱的樱桃树仍敢于承认的勇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诚信是十指被插入竹签后仍不出卖同志的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诚信是春天播下的种子秋天里结出丰硕的果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诚信是推倒了墙变成桥，是人与人之间真切的情感纽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诚信是祖国对我们的殷切期望，是我们担起历史的重任时对祖国母亲自信的一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286000" y="3049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诚信是什麽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2195640" y="0"/>
            <a:ext cx="7345080" cy="65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6666"/>
                </a:solidFill>
                <a:latin typeface="Arial"/>
                <a:ea typeface="华文行楷"/>
              </a:rPr>
              <a:t>作业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１、将文中重点字词的翻译总结到笔记本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２、熟读基础上背诵两篇短文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 txBox="1"/>
          <p:nvPr/>
        </p:nvSpPr>
        <p:spPr>
          <a:xfrm>
            <a:off x="533520" y="0"/>
            <a:ext cx="51847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看谁的记忆力好：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58" name=""/>
          <p:cNvSpPr/>
          <p:nvPr/>
        </p:nvSpPr>
        <p:spPr>
          <a:xfrm>
            <a:off x="1079640" y="2286000"/>
            <a:ext cx="83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世说新语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（      ）（朝代）的（        ）组织一批文人编写的。是六朝（       ）的代表作，古代小说所记大多是传闻、轶事，以短篇为主，在写法上一般都是（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227640" y="227664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南朝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427640" y="285264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刘义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156360" y="3500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志人小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627280" y="53737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直叙其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191280" y="907920"/>
            <a:ext cx="24130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回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0" y="457200"/>
            <a:ext cx="93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方正粗倩_GBK"/>
                <a:ea typeface="方正粗倩_GBK"/>
              </a:rPr>
              <a:t>     </a:t>
            </a:r>
            <a:r>
              <a:rPr b="0" lang="zh-CN" sz="4400" spc="-1" strike="noStrike">
                <a:solidFill>
                  <a:srgbClr val="003300"/>
                </a:solidFill>
                <a:latin typeface="方正粗倩_GBK"/>
                <a:ea typeface="方正粗倩_GBK"/>
              </a:rPr>
              <a:t>找出本文的</a:t>
            </a:r>
            <a:r>
              <a:rPr b="0" lang="zh-CN" sz="4400" spc="-1" strike="noStrike">
                <a:solidFill>
                  <a:srgbClr val="800000"/>
                </a:solidFill>
                <a:latin typeface="方正粗倩_GBK"/>
                <a:ea typeface="方正粗倩_GBK"/>
              </a:rPr>
              <a:t>古今异义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04920" y="2057400"/>
            <a:ext cx="8610120" cy="3733560"/>
            <a:chOff x="304920" y="2057400"/>
            <a:chExt cx="8610120" cy="3733560"/>
          </a:xfrm>
        </p:grpSpPr>
        <p:sp>
          <p:nvSpPr>
            <p:cNvPr id="1066" name=""/>
            <p:cNvSpPr/>
            <p:nvPr/>
          </p:nvSpPr>
          <p:spPr>
            <a:xfrm>
              <a:off x="304920" y="2057400"/>
              <a:ext cx="861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04920" y="3264840"/>
              <a:ext cx="861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04920" y="5790960"/>
              <a:ext cx="861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04920" y="4473360"/>
              <a:ext cx="861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04920" y="20574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096440" y="20574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360400" y="20574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624000" y="20574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809120" y="20574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915040" y="20574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53640" y="20574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489680" y="20574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"/>
          <p:cNvSpPr/>
          <p:nvPr/>
        </p:nvSpPr>
        <p:spPr>
          <a:xfrm>
            <a:off x="380880" y="3581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80880" y="4800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476360" y="2349360"/>
            <a:ext cx="76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细黑"/>
                <a:ea typeface="华文细黑"/>
              </a:rPr>
              <a:t>儿女 </a:t>
            </a:r>
            <a:r>
              <a:rPr b="1" lang="zh-TW" sz="3600" spc="-1" strike="noStrike">
                <a:solidFill>
                  <a:srgbClr val="800000"/>
                </a:solidFill>
                <a:latin typeface="华文细黑"/>
                <a:ea typeface="PMingLiU"/>
              </a:rPr>
              <a:t> </a:t>
            </a:r>
            <a:r>
              <a:rPr b="1" lang="zh-CN" sz="3600" spc="-1" strike="noStrike">
                <a:solidFill>
                  <a:srgbClr val="800000"/>
                </a:solidFill>
                <a:latin typeface="华文细黑"/>
                <a:ea typeface="华文细黑"/>
              </a:rPr>
              <a:t>文义   因   去  委  </a:t>
            </a:r>
            <a:r>
              <a:rPr b="1" lang="zh-TW" sz="3600" spc="-1" strike="noStrike">
                <a:solidFill>
                  <a:srgbClr val="800000"/>
                </a:solidFill>
                <a:latin typeface="华文细黑"/>
                <a:ea typeface="PMingLiU"/>
              </a:rPr>
              <a:t> </a:t>
            </a:r>
            <a:r>
              <a:rPr b="1" lang="zh-CN" sz="3600" spc="-1" strike="noStrike">
                <a:solidFill>
                  <a:srgbClr val="800000"/>
                </a:solidFill>
                <a:latin typeface="华文细黑"/>
                <a:ea typeface="华文细黑"/>
              </a:rPr>
              <a:t>不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447920" y="3505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家中子侄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447920" y="48006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隶书"/>
              </a:rPr>
              <a:t>子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895480" y="3505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隶书"/>
              </a:rPr>
              <a:t>诗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666880" y="48769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文章意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343400" y="3505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隶书"/>
              </a:rPr>
              <a:t>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267080" y="4876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486400" y="3505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隶书"/>
              </a:rPr>
              <a:t>离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410080" y="472428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到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隶书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732720" y="3213000"/>
            <a:ext cx="1143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隶书"/>
              </a:rPr>
              <a:t>丢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隶书"/>
              </a:rPr>
              <a:t>舍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705720" y="48769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隶书"/>
              </a:rPr>
              <a:t>委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772400" y="3581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不回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7696080" y="4876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不理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8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4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609480" y="1981080"/>
            <a:ext cx="75438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翻译</a:t>
            </a:r>
            <a:r>
              <a:rPr b="0" lang="en-US" sz="9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-</a:t>
            </a:r>
            <a:r>
              <a:rPr b="0" lang="zh-CN" sz="9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大挑战</a:t>
            </a:r>
            <a:endParaRPr b="0" lang="en-US" sz="9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096" name=""/>
          <p:cNvSpPr/>
          <p:nvPr/>
        </p:nvSpPr>
        <p:spPr>
          <a:xfrm>
            <a:off x="838080" y="11430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第二回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324000" y="762120"/>
            <a:ext cx="8424720" cy="38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　　  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谢太傅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寒雪日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内集，与儿女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讲论文义。俄而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雪骤，公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欣然曰：“白雪纷纷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何所似？”兄子胡儿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曰：“撒盐空中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差可拟。”兄女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曰：“未若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柳絮因风起。”公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大笑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乐。即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公大兄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无奕女，左将军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王凝之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妻也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　　　　　　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                                 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— </a:t>
            </a:r>
            <a:r>
              <a:rPr b="0" lang="en-US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世说新语</a:t>
            </a:r>
            <a:r>
              <a:rPr b="0" lang="en-US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》</a:t>
            </a:r>
            <a:r>
              <a:rPr b="0" lang="en-US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99" name=""/>
          <p:cNvSpPr/>
          <p:nvPr/>
        </p:nvSpPr>
        <p:spPr>
          <a:xfrm>
            <a:off x="380880" y="10666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、俄而雪骤，公欣然曰：“白雪纷纷何所似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80880" y="16765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一会儿，雪下得紧了，太傅高兴地说： “这纷纷扬扬的大雪像什么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80880" y="27432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、撒盐空中差可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685800" y="3429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跟把盐撒在空中差不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80880" y="41148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未若柳絮因风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80880" y="47242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如比作柳絮随风飘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107" name=""/>
          <p:cNvSpPr/>
          <p:nvPr/>
        </p:nvSpPr>
        <p:spPr>
          <a:xfrm>
            <a:off x="304920" y="9144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、陈太丘与友期行，期日中，过中不至，太丘舍去，去后乃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80880" y="19810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陈太丘跟一位朋友约定一同出门，约好正午时碰头。正午已过，不见朋友来，太丘不再等候就走了。太丘走后，那人才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04920" y="36576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</a:rPr>
              <a:t>5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</a:rPr>
              <a:t>、与人期行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</a:rPr>
              <a:t>相委而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80880" y="43434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别人约好了一起走，却丢下别人自己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113" name=""/>
          <p:cNvSpPr/>
          <p:nvPr/>
        </p:nvSpPr>
        <p:spPr>
          <a:xfrm>
            <a:off x="304920" y="9907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君与家君期日中。过中不至，则是无信；对子骂父，则是无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57200" y="20574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您和我父亲约好了正午时候一同出发。您正午不到，就是不讲信用，对儿子骂他的父亲，就是失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04920" y="3733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、友人惭，下车引之，元方入门不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33520" y="44956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那人感到惭愧，便从车里下来，想跟元方握手，元方连头也不回地走进了自家的大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8" name=""/>
          <p:cNvSpPr/>
          <p:nvPr/>
        </p:nvSpPr>
        <p:spPr>
          <a:xfrm>
            <a:off x="304920" y="53352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三回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1692360" y="2205000"/>
            <a:ext cx="460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抢答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20" name=""/>
          <p:cNvSpPr/>
          <p:nvPr/>
        </p:nvSpPr>
        <p:spPr>
          <a:xfrm>
            <a:off x="3124080" y="50292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内容理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2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590920"/>
            <a:ext cx="80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指出下列红色的称谓各指代的是何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33520" y="32767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）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公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大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809880" y="32767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谢太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33520" y="38862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尊君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在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733920" y="38862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你的父亲，指陈太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33520" y="45720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君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久不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733920" y="4495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你，指陈太丘的友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33520" y="51814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）君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家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657600" y="51814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我的父亲，指陈太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1371600" y="609480"/>
            <a:ext cx="60958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看看你都掌握了吗？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4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135" name=""/>
          <p:cNvSpPr/>
          <p:nvPr/>
        </p:nvSpPr>
        <p:spPr>
          <a:xfrm>
            <a:off x="304920" y="9907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、解释下列红色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" y="1600200"/>
            <a:ext cx="18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俄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6002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不久，一会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932360" y="15573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未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084720" y="155736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不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80880" y="2209680"/>
            <a:ext cx="27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去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2209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859280" y="227664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下车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引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804000" y="2276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80880" y="2895480"/>
            <a:ext cx="32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柳絮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因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风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743200" y="28954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凭借，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57200" y="3581280"/>
            <a:ext cx="26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相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委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而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4382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丢下，舍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076720" y="2924280"/>
            <a:ext cx="28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入门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顾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6948360" y="2924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回头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952880" y="358128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内集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624852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家庭聚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80880" y="419112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公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欣然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14600" y="4191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高兴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80880" y="480060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太丘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舍去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438280" y="48769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不再等候就走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57200" y="54864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讲论文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666880" y="5486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讲解诗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4267080"/>
            <a:ext cx="19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差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可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781680" y="42670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差不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1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162" name=""/>
          <p:cNvSpPr/>
          <p:nvPr/>
        </p:nvSpPr>
        <p:spPr>
          <a:xfrm>
            <a:off x="304920" y="7621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、请找出下列句子中的通假字并解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1295280"/>
            <a:ext cx="56991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）不亦说乎：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）诲女知之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）是知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）项为之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既而风定天清，一切乌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）数至八层，裁如星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）尊君在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3352680" y="12952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说通悦，愉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971800" y="2590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知通智，聪明智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505320" y="1905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女通汝，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200400" y="32004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强通僵，僵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580000" y="386064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乌通无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859280" y="450864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裁通才，只有，刚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203640" y="51577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不通否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2" name=""/>
          <p:cNvSpPr txBox="1"/>
          <p:nvPr/>
        </p:nvSpPr>
        <p:spPr>
          <a:xfrm>
            <a:off x="3429000" y="228600"/>
            <a:ext cx="3276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173" name=""/>
          <p:cNvSpPr/>
          <p:nvPr/>
        </p:nvSpPr>
        <p:spPr>
          <a:xfrm>
            <a:off x="38088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元方斥责“友人”无信，令你想起我们学过的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《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论语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&gt;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十则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的哪句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09480" y="22096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与朋友交而不信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304920" y="29718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你从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陈太丘与友期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中得到什么启示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85800" y="3733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做人要讲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04920" y="44197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咏雪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中儿女的含义与今天有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258920" y="52293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古指家中子侄辈，今指子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2" name=""/>
          <p:cNvSpPr txBox="1"/>
          <p:nvPr/>
        </p:nvSpPr>
        <p:spPr>
          <a:xfrm>
            <a:off x="3429000" y="228600"/>
            <a:ext cx="3276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183" name=""/>
          <p:cNvSpPr/>
          <p:nvPr/>
        </p:nvSpPr>
        <p:spPr>
          <a:xfrm>
            <a:off x="304920" y="99072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）“谢太傅寒雪日内集，与儿女讲论文义”这一句总述了谢太傅家人咏雪的背景，极精练地交待了时间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地点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人物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                      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事件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等要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971800" y="2666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寒雪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324480" y="2666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内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914400" y="3124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谢太傅与儿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029200" y="31240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讲论文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800" name=""/>
          <p:cNvSpPr/>
          <p:nvPr/>
        </p:nvSpPr>
        <p:spPr>
          <a:xfrm>
            <a:off x="609480" y="10666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宋体"/>
                <a:ea typeface="楷体_GB2312"/>
              </a:rPr>
              <a:t>柳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  <a:ea typeface="楷体_GB2312"/>
              </a:rPr>
              <a:t>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828800" y="10666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x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191120" y="10666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y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514600" y="22860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yù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09480" y="228600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谢道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971800" y="10666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无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019920" y="22860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fù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114800" y="2286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谢太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858000" y="3352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zhòu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86400" y="33526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雪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590920" y="33526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chā   nǐ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33526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差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可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5"/>
          <a:stretch/>
        </p:blipFill>
        <p:spPr>
          <a:xfrm>
            <a:off x="1676520" y="762120"/>
            <a:ext cx="7238880" cy="541008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-941760" y="1173240"/>
            <a:ext cx="26182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咏   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0" y="907920"/>
            <a:ext cx="896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ff"/>
                </a:solidFill>
                <a:latin typeface="Arial"/>
                <a:ea typeface="楷体_GB2312"/>
              </a:rPr>
              <a:t>自学指导二</a:t>
            </a:r>
            <a:r>
              <a:rPr b="0" lang="zh-CN" sz="6000" spc="-1" strike="noStrike">
                <a:solidFill>
                  <a:srgbClr val="6600ff"/>
                </a:solidFill>
                <a:latin typeface="Arial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结合课下注释翻译课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0" y="160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谢太傅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寒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内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儿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讲论文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472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俄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雪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公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欣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曰：“白雪纷纷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似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0" y="2743200"/>
            <a:ext cx="9144000" cy="3812400"/>
            <a:chOff x="0" y="2743200"/>
            <a:chExt cx="9144000" cy="3812400"/>
          </a:xfrm>
        </p:grpSpPr>
        <p:sp>
          <p:nvSpPr>
            <p:cNvPr id="820" name=""/>
            <p:cNvSpPr/>
            <p:nvPr/>
          </p:nvSpPr>
          <p:spPr>
            <a:xfrm>
              <a:off x="0" y="274320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82900"/>
                  </a:solidFill>
                  <a:latin typeface="Times New Roman"/>
                </a:rPr>
                <a:t>在一个寒冷的雪天，谢太傅把家人聚会在一起，跟子侄辈们谈诗论文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0" y="6095880"/>
              <a:ext cx="883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82900"/>
                  </a:solidFill>
                  <a:latin typeface="Times New Roman"/>
                </a:rPr>
                <a:t>忽然间雪下得紧了，太傅高兴地说：“这纷纷扬扬的大雪像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什么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呢</a:t>
              </a:r>
              <a:r>
                <a:rPr b="1" lang="zh-CN" sz="2400" spc="-1" strike="noStrike">
                  <a:solidFill>
                    <a:srgbClr val="d82900"/>
                  </a:solidFill>
                  <a:latin typeface="Times New Roman"/>
                </a:rPr>
                <a:t>？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2286000" y="3049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咏      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0" y="762120"/>
            <a:ext cx="2666880" cy="914400"/>
            <a:chOff x="0" y="762120"/>
            <a:chExt cx="2666880" cy="914400"/>
          </a:xfrm>
        </p:grpSpPr>
        <p:sp>
          <p:nvSpPr>
            <p:cNvPr id="824" name=""/>
            <p:cNvSpPr/>
            <p:nvPr/>
          </p:nvSpPr>
          <p:spPr>
            <a:xfrm>
              <a:off x="1600200" y="13716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0" y="762120"/>
              <a:ext cx="2666880" cy="609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寒冷的，下雪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4038480" y="990720"/>
            <a:ext cx="1981080" cy="761400"/>
            <a:chOff x="4038480" y="990720"/>
            <a:chExt cx="1981080" cy="761400"/>
          </a:xfrm>
        </p:grpSpPr>
        <p:sp>
          <p:nvSpPr>
            <p:cNvPr id="827" name=""/>
            <p:cNvSpPr/>
            <p:nvPr/>
          </p:nvSpPr>
          <p:spPr>
            <a:xfrm>
              <a:off x="4952880" y="1447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038480" y="990720"/>
              <a:ext cx="1981080" cy="4568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家庭聚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0" y="3657600"/>
            <a:ext cx="1828800" cy="1143000"/>
            <a:chOff x="0" y="3657600"/>
            <a:chExt cx="1828800" cy="1143000"/>
          </a:xfrm>
        </p:grpSpPr>
        <p:sp>
          <p:nvSpPr>
            <p:cNvPr id="830" name=""/>
            <p:cNvSpPr/>
            <p:nvPr/>
          </p:nvSpPr>
          <p:spPr>
            <a:xfrm flipH="1">
              <a:off x="304920" y="449568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0" y="3657600"/>
              <a:ext cx="1828800" cy="7621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不久，一会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1981080" y="3809880"/>
            <a:ext cx="914400" cy="990720"/>
            <a:chOff x="1981080" y="3809880"/>
            <a:chExt cx="914400" cy="990720"/>
          </a:xfrm>
        </p:grpSpPr>
        <p:sp>
          <p:nvSpPr>
            <p:cNvPr id="833" name=""/>
            <p:cNvSpPr/>
            <p:nvPr/>
          </p:nvSpPr>
          <p:spPr>
            <a:xfrm flipH="1">
              <a:off x="1981080" y="441936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209680" y="3809880"/>
              <a:ext cx="685800" cy="609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048120" y="3962520"/>
            <a:ext cx="1600200" cy="914400"/>
            <a:chOff x="3048120" y="3962520"/>
            <a:chExt cx="1600200" cy="914400"/>
          </a:xfrm>
        </p:grpSpPr>
        <p:sp>
          <p:nvSpPr>
            <p:cNvPr id="836" name=""/>
            <p:cNvSpPr/>
            <p:nvPr/>
          </p:nvSpPr>
          <p:spPr>
            <a:xfrm>
              <a:off x="3581640" y="44960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8120" y="3962520"/>
              <a:ext cx="16002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高兴的样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6588000" y="907920"/>
            <a:ext cx="208944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家中的子侄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6804000" y="1412640"/>
            <a:ext cx="576360" cy="215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148360" y="3933720"/>
            <a:ext cx="2666880" cy="914400"/>
            <a:chOff x="5148360" y="3933720"/>
            <a:chExt cx="2666880" cy="914400"/>
          </a:xfrm>
        </p:grpSpPr>
        <p:sp>
          <p:nvSpPr>
            <p:cNvPr id="841" name=""/>
            <p:cNvSpPr/>
            <p:nvPr/>
          </p:nvSpPr>
          <p:spPr>
            <a:xfrm>
              <a:off x="6748560" y="45432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48360" y="3933720"/>
              <a:ext cx="2666880" cy="609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什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0" y="144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兄子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胡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曰：“撒盐空中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可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14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兄女曰：  “未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柳絮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风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0" y="2438280"/>
            <a:ext cx="9144000" cy="2974320"/>
            <a:chOff x="0" y="2438280"/>
            <a:chExt cx="9144000" cy="2974320"/>
          </a:xfrm>
        </p:grpSpPr>
        <p:sp>
          <p:nvSpPr>
            <p:cNvPr id="846" name=""/>
            <p:cNvSpPr/>
            <p:nvPr/>
          </p:nvSpPr>
          <p:spPr>
            <a:xfrm>
              <a:off x="0" y="24382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他哥哥的长子胡儿说：“跟把盐撒在空中差不多。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0" y="49528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他（另一个）哥哥的女儿道韫说；“不如比做风把柳絮吹得满天飞舞。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914400" y="304920"/>
            <a:ext cx="2438280" cy="1295280"/>
            <a:chOff x="914400" y="304920"/>
            <a:chExt cx="2438280" cy="1295280"/>
          </a:xfrm>
        </p:grpSpPr>
        <p:sp>
          <p:nvSpPr>
            <p:cNvPr id="849" name=""/>
            <p:cNvSpPr/>
            <p:nvPr/>
          </p:nvSpPr>
          <p:spPr>
            <a:xfrm>
              <a:off x="1981080" y="1219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914400" y="304920"/>
              <a:ext cx="243828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谢安哥哥的长子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即谢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4343400" y="762120"/>
            <a:ext cx="1981080" cy="761400"/>
            <a:chOff x="4343400" y="762120"/>
            <a:chExt cx="1981080" cy="761400"/>
          </a:xfrm>
        </p:grpSpPr>
        <p:sp>
          <p:nvSpPr>
            <p:cNvPr id="852" name=""/>
            <p:cNvSpPr/>
            <p:nvPr/>
          </p:nvSpPr>
          <p:spPr>
            <a:xfrm>
              <a:off x="5486400" y="1218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43400" y="762120"/>
              <a:ext cx="1981080" cy="4568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大致，差不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6552720" y="762120"/>
            <a:ext cx="1067040" cy="761400"/>
            <a:chOff x="6552720" y="762120"/>
            <a:chExt cx="1067040" cy="761400"/>
          </a:xfrm>
        </p:grpSpPr>
        <p:sp>
          <p:nvSpPr>
            <p:cNvPr id="855" name=""/>
            <p:cNvSpPr/>
            <p:nvPr/>
          </p:nvSpPr>
          <p:spPr>
            <a:xfrm flipH="1">
              <a:off x="6552720" y="1295280"/>
              <a:ext cx="2286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29400" y="762120"/>
              <a:ext cx="990360" cy="533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比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4343400" y="3200400"/>
            <a:ext cx="762120" cy="914400"/>
            <a:chOff x="4343400" y="3200400"/>
            <a:chExt cx="762120" cy="914400"/>
          </a:xfrm>
        </p:grpSpPr>
        <p:sp>
          <p:nvSpPr>
            <p:cNvPr id="858" name=""/>
            <p:cNvSpPr/>
            <p:nvPr/>
          </p:nvSpPr>
          <p:spPr>
            <a:xfrm>
              <a:off x="4572000" y="3733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343400" y="3200400"/>
              <a:ext cx="76212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6227640" y="3213000"/>
            <a:ext cx="1296720" cy="1066680"/>
            <a:chOff x="6227640" y="3213000"/>
            <a:chExt cx="1296720" cy="1066680"/>
          </a:xfrm>
        </p:grpSpPr>
        <p:sp>
          <p:nvSpPr>
            <p:cNvPr id="861" name=""/>
            <p:cNvSpPr/>
            <p:nvPr/>
          </p:nvSpPr>
          <p:spPr>
            <a:xfrm>
              <a:off x="6690600" y="3822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227640" y="3213000"/>
              <a:ext cx="1296720" cy="685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飘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5219640" y="3573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表凭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5796000" y="4005000"/>
            <a:ext cx="0" cy="144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04:16Z</dcterms:created>
  <dc:creator>jetpanda</dc:creator>
  <dc:description/>
  <cp:keywords/>
  <dc:language>en-US</dc:language>
  <cp:lastModifiedBy>微软用户</cp:lastModifiedBy>
  <cp:lastPrinted>1899-12-30T00:00:00Z</cp:lastPrinted>
  <dcterms:modified xsi:type="dcterms:W3CDTF">2012-11-19T15:21:33Z</dcterms:modified>
  <cp:revision>1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11</vt:lpwstr>
  </property>
</Properties>
</file>